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08B0-C70A-468C-BBAF-A9FF3F2F3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C225-1914-47CB-812B-9E7B551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D0C3-365E-420C-BC99-1F4AC9D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8D07-6E46-4856-8C93-EF7BECA94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4593-63FD-4EF8-BF8C-BA89FACD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7B38-8A63-4BB4-AE7A-911CA43C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A941-A4E8-43C8-ACC7-2010E70D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5A71-1FEA-45AD-AD5A-BD36CF9F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0F7B-DC9F-49FF-9ABC-57430913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4B11-1E29-4873-AA7D-F4A00B0B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416D-320E-4A89-81D7-C782E1A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088F-6304-43AE-9A34-475CE074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04000" y="6597720"/>
            <a:ext cx="2206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4498560" y="661644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399"/>
                </a:solidFill>
                <a:latin typeface="Barclays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272A-ADC7-4EDE-9A13-9145B8EE54C5}" type="slidenum">
              <a:rPr b="0" lang="en-US" sz="800" spc="-1" strike="noStrike">
                <a:solidFill>
                  <a:srgbClr val="003399"/>
                </a:solidFill>
                <a:latin typeface="Barclays San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162000" y="114480"/>
            <a:ext cx="2465280" cy="4474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72000" y="0"/>
            <a:ext cx="43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Information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Security Engine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08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912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5912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5912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4933800"/>
            <a:ext cx="67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rd International Workshop on Analysis of Security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0-11 2009, Port Jefferson, New York, US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681200"/>
            <a:ext cx="806436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s in the Real World – a Users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ow APIs are used and ab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F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lays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F50B-8780-438F-826F-89FDB8B79A6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C94C3-6443-4DD1-8F16-6FD0071F7B26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B914-51C7-462C-B923-FAECCC37C41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C33E9-6E76-4727-B83C-13639349CB36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Details: George.French@Barclay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48EC-A194-4D61-AA33-2C0AFD1DC38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020F6-1FA6-428F-9DD7-90EAF095F4E0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052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banks use cryptograph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155736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s a control to mitigat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3716280"/>
            <a:ext cx="456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Ena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206064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61DA-24CE-4A73-BA1A-BB3B6F223B5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42EA9-3CD7-40A2-9057-014EE7D8CBB4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125360"/>
            <a:ext cx="8280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API vs. Cryptographic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 term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llary: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dustry specific functionality there can be a 100% overlap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PIs are more like Cryptographic APIs in nature and may require additional business knowledge to impl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068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ptographic AP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re viewed as being the low level/vendor specific API that will interface with a Hardware Security Module. They require a high degree of knowledge to implement correctly and are used to form Security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20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re viewed as generic building blocks which can be used to integrate security into an application to meet the control obj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C064-C428-4803-B229-CC3B873B3AA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91234-2D46-4BE1-B5DA-A38FC7BD6618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125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banks select A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880" y="587700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poke cryptograph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000" y="53737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240" y="4941720"/>
            <a:ext cx="38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ce (internal and 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436572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n the application and busines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2480" y="3716280"/>
            <a:ext cx="79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ation and infrastructure of the application requiring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924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ill be undertaking the development or intergeneration of the API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the application or will a product be purch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0880" y="23493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eployed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4120" y="1773360"/>
            <a:ext cx="66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banking functions verses general purpos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7694-F8EF-4460-81D7-6EE3C5FC5D1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6B0B3-6E12-4A46-8B89-752F98F517ED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125360"/>
            <a:ext cx="82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ing the effectiveness of an 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1080" y="4149720"/>
            <a:ext cx="26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ide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080" y="350028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6360" y="2924280"/>
            <a:ext cx="14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s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77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.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4160" y="2492280"/>
            <a:ext cx="23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e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720" y="2133720"/>
            <a:ext cx="25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Pe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6787-8595-4461-8ECB-0F3F7358C66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E4A5E-469F-4D3E-8ADD-B1F98C7C8E61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1125360"/>
            <a:ext cx="8280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y APIs are like Swiss Army Knives – lots of neat bits and pieces each with a specialist function, handy to achieve a number of jo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076560" cy="3101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08360" y="242100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know what each one is for and how to use it you are fine. But if you select the wrong too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2520" y="5445000"/>
            <a:ext cx="10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We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79568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A3C3-61F8-4A90-A4E1-D6B5C4CC0796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36A49-CCAE-4C39-9120-D4E52F5F1EA9}" type="datetime2">
              <a:rPr lang="en-US"/>
              <a:t>Friday, July 31, 2026</a:t>
            </a:fld>
          </a:p>
        </p:txBody>
      </p: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40360" y="11001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440" y="5805360"/>
            <a:ext cx="18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cred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800" y="5229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2160" y="46530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implement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342900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Roll-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ig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3440" y="3068640"/>
            <a:ext cx="21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06064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d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320" y="162864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Mechanis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4752-EB8A-495D-8527-0F3E1E0ABD7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A17F4-83E3-4BF7-A450-956079F0AD4F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125360"/>
            <a:ext cx="82803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wards the perfect “AP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hat have been bene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”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ndra AP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mp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13D0-6FC4-4BAB-A6DA-F41B4191594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A16EF-B86A-437F-B422-64C7BD532B97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125360"/>
            <a:ext cx="8280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wards the perfect “AP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Management AP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base ke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exchange of ke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control of key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AP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level of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strong controls on configuration and usag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strong access control to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nput/output vali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key operational and environmental requirements for the correct operation of the AP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6B2A-BBA1-496C-A799-551240DF633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5E4DA-9AC4-40A4-B4F4-F802E5FE1735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8:54:51Z</dcterms:created>
  <dc:creator>Tara.Lock1</dc:creator>
  <dc:description/>
  <dc:language>en-US</dc:language>
  <cp:lastModifiedBy>George French</cp:lastModifiedBy>
  <dcterms:modified xsi:type="dcterms:W3CDTF">2009-07-15T15:30:17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46471978</vt:r8>
  </property>
  <property fmtid="{D5CDD505-2E9C-101B-9397-08002B2CF9AE}" pid="3" name="_AuthorEmail">
    <vt:lpwstr>George.French@barclayscorp.com</vt:lpwstr>
  </property>
  <property fmtid="{D5CDD505-2E9C-101B-9397-08002B2CF9AE}" pid="4" name="_AuthorEmailDisplayName">
    <vt:lpwstr>French, George : GRCB Technology</vt:lpwstr>
  </property>
  <property fmtid="{D5CDD505-2E9C-101B-9397-08002B2CF9AE}" pid="5" name="_EmailSubject">
    <vt:lpwstr>ASA3: abstracts and slides</vt:lpwstr>
  </property>
  <property fmtid="{D5CDD505-2E9C-101B-9397-08002B2CF9AE}" pid="6" name="_NewReviewCycle">
    <vt:lpwstr/>
  </property>
</Properties>
</file>